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wmf" ContentType="image/x-wmf"/>
  <Override PartName="/ppt/media/image55.wmf" ContentType="image/x-wmf"/>
  <Override PartName="/ppt/media/image54.wmf" ContentType="image/x-wmf"/>
  <Override PartName="/ppt/media/image53.wmf" ContentType="image/x-wmf"/>
  <Override PartName="/ppt/media/image52.wmf" ContentType="image/x-wmf"/>
  <Override PartName="/ppt/media/image51.wmf" ContentType="image/x-wmf"/>
  <Override PartName="/ppt/media/image50.wmf" ContentType="image/x-wmf"/>
  <Override PartName="/ppt/media/image46.wmf" ContentType="image/x-wmf"/>
  <Override PartName="/ppt/media/image45.wmf" ContentType="image/x-wmf"/>
  <Override PartName="/ppt/media/image44.wmf" ContentType="image/x-wmf"/>
  <Override PartName="/ppt/media/image43.wmf" ContentType="image/x-wmf"/>
  <Override PartName="/ppt/media/image42.wmf" ContentType="image/x-wmf"/>
  <Override PartName="/ppt/media/image8.png" ContentType="image/png"/>
  <Override PartName="/ppt/media/image39.png" ContentType="image/png"/>
  <Override PartName="/ppt/media/image61.wmf" ContentType="image/x-wmf"/>
  <Override PartName="/ppt/media/image36.png" ContentType="image/png"/>
  <Override PartName="/ppt/media/image35.wmf" ContentType="image/x-wmf"/>
  <Override PartName="/ppt/media/image34.wmf" ContentType="image/x-wmf"/>
  <Override PartName="/ppt/media/image33.wmf" ContentType="image/x-wmf"/>
  <Override PartName="/ppt/media/image31.wmf" ContentType="image/x-wmf"/>
  <Override PartName="/ppt/media/image30.wmf" ContentType="image/x-wmf"/>
  <Override PartName="/ppt/media/image13.wmf" ContentType="image/x-wmf"/>
  <Override PartName="/ppt/media/image5.png" ContentType="image/png"/>
  <Override PartName="/ppt/media/image47.wmf" ContentType="image/x-wmf"/>
  <Override PartName="/ppt/media/image20.wmf" ContentType="image/x-wmf"/>
  <Override PartName="/ppt/media/image57.wmf" ContentType="image/x-wmf"/>
  <Override PartName="/ppt/media/image19.wmf" ContentType="image/x-wmf"/>
  <Override PartName="/ppt/media/image21.wmf" ContentType="image/x-wmf"/>
  <Override PartName="/ppt/media/image58.wmf" ContentType="image/x-wmf"/>
  <Override PartName="/ppt/media/image22.wmf" ContentType="image/x-wmf"/>
  <Override PartName="/ppt/media/image59.wmf" ContentType="image/x-wmf"/>
  <Override PartName="/ppt/media/image23.wmf" ContentType="image/x-wmf"/>
  <Override PartName="/ppt/media/image24.wmf" ContentType="image/x-wmf"/>
  <Override PartName="/ppt/media/image62.wmf" ContentType="image/x-wmf"/>
  <Override PartName="/ppt/media/image26.wmf" ContentType="image/x-wmf"/>
  <Override PartName="/ppt/media/image63.wmf" ContentType="image/x-wmf"/>
  <Override PartName="/ppt/media/image27.wmf" ContentType="image/x-wmf"/>
  <Override PartName="/ppt/media/image64.wmf" ContentType="image/x-wmf"/>
  <Override PartName="/ppt/media/image28.wmf" ContentType="image/x-wmf"/>
  <Override PartName="/ppt/media/image70.wmf" ContentType="image/x-wmf"/>
  <Override PartName="/ppt/media/image65.wmf" ContentType="image/x-wmf"/>
  <Override PartName="/ppt/media/image66.wmf" ContentType="image/x-wmf"/>
  <Override PartName="/ppt/media/image79.wmf" ContentType="image/x-wmf"/>
  <Override PartName="/ppt/media/image67.wmf" ContentType="image/x-wmf"/>
  <Override PartName="/ppt/media/image78.wmf" ContentType="image/x-wmf"/>
  <Override PartName="/ppt/media/image77.wmf" ContentType="image/x-wmf"/>
  <Override PartName="/ppt/media/image37.png" ContentType="image/png"/>
  <Override PartName="/ppt/media/image40.wmf" ContentType="image/x-wmf"/>
  <Override PartName="/ppt/media/image41.wmf" ContentType="image/x-wmf"/>
  <Override PartName="/ppt/media/image7.png" ContentType="image/png"/>
  <Override PartName="/ppt/media/image76.wmf" ContentType="image/x-wmf"/>
  <Override PartName="/ppt/media/image75.wmf" ContentType="image/x-wmf"/>
  <Override PartName="/ppt/media/image74.wmf" ContentType="image/x-wmf"/>
  <Override PartName="/ppt/media/image4.png" ContentType="image/png"/>
  <Override PartName="/ppt/media/image73.wmf" ContentType="image/x-wmf"/>
  <Override PartName="/ppt/media/image3.png" ContentType="image/png"/>
  <Override PartName="/ppt/media/image72.wmf" ContentType="image/x-wmf"/>
  <Override PartName="/ppt/media/image71.wmf" ContentType="image/x-wmf"/>
  <Override PartName="/ppt/media/image1.png" ContentType="image/png"/>
  <Override PartName="/ppt/media/image29.wmf" ContentType="image/x-wmf"/>
  <Override PartName="/ppt/media/image69.wmf" ContentType="image/x-wmf"/>
  <Override PartName="/ppt/media/image32.wmf" ContentType="image/x-wmf"/>
  <Override PartName="/ppt/media/image68.wmf" ContentType="image/x-wmf"/>
  <Override PartName="/ppt/media/image82.wmf" ContentType="image/x-wmf"/>
  <Override PartName="/ppt/media/image17.wmf" ContentType="image/x-wmf"/>
  <Override PartName="/ppt/media/image25.wmf" ContentType="image/x-wmf"/>
  <Override PartName="/ppt/media/image2.wmf" ContentType="image/x-wmf"/>
  <Override PartName="/ppt/media/image14.wmf" ContentType="image/x-wmf"/>
  <Override PartName="/ppt/media/image38.png" ContentType="image/png"/>
  <Override PartName="/ppt/media/image60.wmf" ContentType="image/x-wmf"/>
  <Override PartName="/ppt/media/image83.wmf" ContentType="image/x-wmf"/>
  <Override PartName="/ppt/media/image18.wmf" ContentType="image/x-wmf"/>
  <Override PartName="/ppt/media/image6.wmf" ContentType="image/x-wmf"/>
  <Override PartName="/ppt/media/image80.wmf" ContentType="image/x-wmf"/>
  <Override PartName="/ppt/media/image15.wmf" ContentType="image/x-wmf"/>
  <Override PartName="/ppt/media/image11.wmf" ContentType="image/x-wmf"/>
  <Override PartName="/ppt/media/image48.wmf" ContentType="image/x-wmf"/>
  <Override PartName="/ppt/media/image9.wmf" ContentType="image/x-wmf"/>
  <Override PartName="/ppt/media/image81.wmf" ContentType="image/x-wmf"/>
  <Override PartName="/ppt/media/image16.wmf" ContentType="image/x-wmf"/>
  <Override PartName="/ppt/media/image12.wmf" ContentType="image/x-wmf"/>
  <Override PartName="/ppt/media/image49.wmf" ContentType="image/x-wmf"/>
  <Override PartName="/ppt/media/image10.wmf" ContentType="image/x-wmf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3901A-D567-450C-BB26-1DDFCCAFB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0C474-C8FD-43FB-9B54-36992ABAE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43889-00E2-46CE-9B9D-B5F370ADB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7AEC8-AEFF-427A-9E39-800C2D572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58865-2E75-469D-81B7-F2A7BE74D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EF97A-E0E8-42FA-B810-2A21BB40A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6ABFB-74B7-43D8-94C4-05D9F3172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DBCBB-75DD-4CF1-93C1-BF668B0C2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BB88E-480A-4A71-BCD7-B0122F88B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30B6A-18D9-4478-B9E5-79AA39C71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C0074-E63C-4C60-8A3D-C70B86B9B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D5593-85F4-4D2A-8BE5-CD210B2F0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04237-CA08-4727-9925-7298705AE0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image" Target="../media/image21.wmf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image" Target="../media/image26.wmf"/><Relationship Id="rId5" Type="http://schemas.openxmlformats.org/officeDocument/2006/relationships/image" Target="../media/image27.wmf"/><Relationship Id="rId6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wm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7.png"/><Relationship Id="rId3" Type="http://schemas.openxmlformats.org/officeDocument/2006/relationships/image" Target="../media/image38.png"/><Relationship Id="rId4" Type="http://schemas.openxmlformats.org/officeDocument/2006/relationships/image" Target="../media/image8.png"/><Relationship Id="rId5" Type="http://schemas.openxmlformats.org/officeDocument/2006/relationships/image" Target="../media/image39.png"/><Relationship Id="rId6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image" Target="../media/image41.wmf"/><Relationship Id="rId3" Type="http://schemas.openxmlformats.org/officeDocument/2006/relationships/image" Target="../media/image42.wmf"/><Relationship Id="rId4" Type="http://schemas.openxmlformats.org/officeDocument/2006/relationships/image" Target="../media/image43.wmf"/><Relationship Id="rId5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image" Target="../media/image45.wmf"/><Relationship Id="rId3" Type="http://schemas.openxmlformats.org/officeDocument/2006/relationships/image" Target="../media/image46.wmf"/><Relationship Id="rId4" Type="http://schemas.openxmlformats.org/officeDocument/2006/relationships/image" Target="../media/image47.wmf"/><Relationship Id="rId5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8.wmf"/><Relationship Id="rId2" Type="http://schemas.openxmlformats.org/officeDocument/2006/relationships/image" Target="../media/image49.wmf"/><Relationship Id="rId3" Type="http://schemas.openxmlformats.org/officeDocument/2006/relationships/image" Target="../media/image50.wmf"/><Relationship Id="rId4" Type="http://schemas.openxmlformats.org/officeDocument/2006/relationships/image" Target="../media/image51.wmf"/><Relationship Id="rId5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2.wmf"/><Relationship Id="rId2" Type="http://schemas.openxmlformats.org/officeDocument/2006/relationships/image" Target="../media/image53.wmf"/><Relationship Id="rId3" Type="http://schemas.openxmlformats.org/officeDocument/2006/relationships/image" Target="../media/image54.wmf"/><Relationship Id="rId4" Type="http://schemas.openxmlformats.org/officeDocument/2006/relationships/image" Target="../media/image55.wmf"/><Relationship Id="rId5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6.wmf"/><Relationship Id="rId2" Type="http://schemas.openxmlformats.org/officeDocument/2006/relationships/image" Target="../media/image57.wmf"/><Relationship Id="rId3" Type="http://schemas.openxmlformats.org/officeDocument/2006/relationships/image" Target="../media/image58.wmf"/><Relationship Id="rId4" Type="http://schemas.openxmlformats.org/officeDocument/2006/relationships/image" Target="../media/image59.wmf"/><Relationship Id="rId5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0.wmf"/><Relationship Id="rId2" Type="http://schemas.openxmlformats.org/officeDocument/2006/relationships/image" Target="../media/image61.wmf"/><Relationship Id="rId3" Type="http://schemas.openxmlformats.org/officeDocument/2006/relationships/image" Target="../media/image62.wmf"/><Relationship Id="rId4" Type="http://schemas.openxmlformats.org/officeDocument/2006/relationships/image" Target="../media/image63.wmf"/><Relationship Id="rId5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4.wmf"/><Relationship Id="rId2" Type="http://schemas.openxmlformats.org/officeDocument/2006/relationships/image" Target="../media/image65.wmf"/><Relationship Id="rId3" Type="http://schemas.openxmlformats.org/officeDocument/2006/relationships/image" Target="../media/image66.wmf"/><Relationship Id="rId4" Type="http://schemas.openxmlformats.org/officeDocument/2006/relationships/image" Target="../media/image67.wmf"/><Relationship Id="rId5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8.wmf"/><Relationship Id="rId2" Type="http://schemas.openxmlformats.org/officeDocument/2006/relationships/image" Target="../media/image69.wmf"/><Relationship Id="rId3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0.wmf"/><Relationship Id="rId2" Type="http://schemas.openxmlformats.org/officeDocument/2006/relationships/image" Target="../media/image71.wmf"/><Relationship Id="rId3" Type="http://schemas.openxmlformats.org/officeDocument/2006/relationships/image" Target="../media/image72.wmf"/><Relationship Id="rId4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3.wmf"/><Relationship Id="rId2" Type="http://schemas.openxmlformats.org/officeDocument/2006/relationships/image" Target="../media/image74.wmf"/><Relationship Id="rId3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5.wmf"/><Relationship Id="rId2" Type="http://schemas.openxmlformats.org/officeDocument/2006/relationships/image" Target="../media/image76.wmf"/><Relationship Id="rId3" Type="http://schemas.openxmlformats.org/officeDocument/2006/relationships/image" Target="../media/image77.wmf"/><Relationship Id="rId4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8.wmf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9.wmf"/><Relationship Id="rId2" Type="http://schemas.openxmlformats.org/officeDocument/2006/relationships/image" Target="../media/image80.wmf"/><Relationship Id="rId3" Type="http://schemas.openxmlformats.org/officeDocument/2006/relationships/image" Target="../media/image81.wmf"/><Relationship Id="rId4" Type="http://schemas.openxmlformats.org/officeDocument/2006/relationships/image" Target="../media/image82.wmf"/><Relationship Id="rId5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3.wmf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93720" y="1239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ilding a Sunspot Group Number Backbone Se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8420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if Svalgaa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tanford Univers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SN Workshop, Tucson, Jan. 20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264200" y="279360"/>
            <a:ext cx="771480" cy="6955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1538280" y="4773600"/>
            <a:ext cx="6240600" cy="1650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4DA25-B5D3-4CF8-A392-DB17FF811CE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cchini, Quimb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293920" y="3033720"/>
            <a:ext cx="81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 = 206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298440" y="1222200"/>
            <a:ext cx="4402080" cy="255132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2192400" y="3156120"/>
            <a:ext cx="81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 = 137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4610160" y="1239840"/>
            <a:ext cx="4389480" cy="254304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309600" y="3736800"/>
            <a:ext cx="4416480" cy="256068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2190600" y="5618160"/>
            <a:ext cx="81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 = 135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>
            <a:off x="4610160" y="3736800"/>
            <a:ext cx="4378320" cy="2571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AD6D9-487C-4A21-9198-5506498F7C3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309600" y="3774960"/>
            <a:ext cx="4416480" cy="25336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309600" y="1241280"/>
            <a:ext cx="4416480" cy="255924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roger, Leppi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190600" y="3160800"/>
            <a:ext cx="81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 = 300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228760" y="5656320"/>
            <a:ext cx="81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 = 95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4643280" y="1239840"/>
            <a:ext cx="4268880" cy="25639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2959200" y="2235240"/>
            <a:ext cx="1574640" cy="101124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5"/>
          <a:stretch/>
        </p:blipFill>
        <p:spPr>
          <a:xfrm>
            <a:off x="4610160" y="3774960"/>
            <a:ext cx="4302000" cy="2533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BB9C3-2F60-4AD6-9DC1-57CD1D83CE4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270000" y="3659040"/>
            <a:ext cx="4494240" cy="257364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270000" y="1239840"/>
            <a:ext cx="4494240" cy="245736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onkoly, Mt. Holyo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190600" y="3044880"/>
            <a:ext cx="81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 = 222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190600" y="5541840"/>
            <a:ext cx="81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 = 95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4648320" y="1201680"/>
            <a:ext cx="4302000" cy="24940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4"/>
          <a:stretch/>
        </p:blipFill>
        <p:spPr>
          <a:xfrm>
            <a:off x="4648320" y="3659040"/>
            <a:ext cx="4346280" cy="25736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47760" y="6270480"/>
            <a:ext cx="85262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Etc… Dawson, Guillaume, Bernaerts, Woinoff, Merino, Ricco, Moncalieri, Sykora, Brunner,…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7F73F-5D5A-462D-A604-B5B0A7010F5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Wolfer Group Backb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423720" y="1441440"/>
            <a:ext cx="8220240" cy="31035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461880" y="4503600"/>
            <a:ext cx="5486400" cy="206856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3535200" y="1854360"/>
            <a:ext cx="211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ighted by F-val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305160" y="3889440"/>
            <a:ext cx="3532320" cy="0"/>
          </a:xfrm>
          <a:prstGeom prst="line">
            <a:avLst/>
          </a:prstGeom>
          <a:ln w="9360">
            <a:solidFill>
              <a:srgbClr val="6699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031080" y="4543560"/>
            <a:ext cx="2727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we average without weighting by the F-value we get very nearly the same result as the overlay at the left sho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E0660-0566-4B07-AEC5-3AC677A221B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11800" y="274320"/>
            <a:ext cx="367992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yt &amp; Schatten used the Group Count from RGO [Royal Greenwich Observatory] as their Normalization Backbone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 don’t w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546120" y="142920"/>
            <a:ext cx="4556160" cy="226044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189000" y="2414520"/>
            <a:ext cx="5548320" cy="221004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568440" y="4610160"/>
            <a:ext cx="1666800" cy="206064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2344680" y="4657680"/>
            <a:ext cx="3327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sé Vaquero found a similar result which he reported at the 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Workshop in Brusse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81200" y="509760"/>
            <a:ext cx="1447560" cy="5989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797440" y="2530440"/>
            <a:ext cx="3065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cause there are strong indications that the RGO data is drifting before ~19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89520" y="3598920"/>
            <a:ext cx="3052800" cy="256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uld this be caused by Wolfer’s count drifting? His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factor for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wa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in fact, declining slightly the first several years as assistant (seeing fewer spots early on – wrong direction). The group count is less sensitive than the Spot count and there are also the other observers…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344680" y="5618160"/>
            <a:ext cx="3341880" cy="10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arychev &amp; Roshchina report in Solar Sys. Res. 2009, </a:t>
            </a:r>
            <a:r>
              <a:rPr b="0" i="1" lang="en-US" sz="1300" spc="-1" strike="noStrike">
                <a:solidFill>
                  <a:srgbClr val="000000"/>
                </a:solidFill>
                <a:latin typeface="Arial"/>
              </a:rPr>
              <a:t>43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: “There is evidence that the Greenwich values obtained before 1880 and the Hoyt–Schatten series of Rg before 1908 are incorrect”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B568A-ED56-4394-AF39-9B202A3B069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762200" y="123480"/>
            <a:ext cx="690408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Schwabe Backb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4095"/>
          <a:stretch/>
        </p:blipFill>
        <p:spPr>
          <a:xfrm>
            <a:off x="303120" y="1671480"/>
            <a:ext cx="8531280" cy="298944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401760" y="138240"/>
            <a:ext cx="1136520" cy="152244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585800" y="954000"/>
            <a:ext cx="7437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hwabe received a 50 mm telescope from Fraunhofer in 1826 Jan 22. This telescope was used for the vast majority of full-disk drawings made 1826–1867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2214720" y="4767120"/>
            <a:ext cx="2885760" cy="168300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4"/>
          <a:srcRect l="0" t="0" r="77995" b="0"/>
          <a:stretch/>
        </p:blipFill>
        <p:spPr>
          <a:xfrm>
            <a:off x="7148520" y="4776840"/>
            <a:ext cx="1303200" cy="16477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231840" y="4761000"/>
            <a:ext cx="1965240" cy="169056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5284800" y="4903920"/>
            <a:ext cx="1951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this backbone we use Wolf’s observations with the large 80mm standard telesco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888160" y="6229440"/>
            <a:ext cx="131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30560" y="6148440"/>
            <a:ext cx="176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Arial"/>
              </a:rPr>
              <a:t>Schwabe’s Hou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09520" y="6129360"/>
            <a:ext cx="31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6AFB0-8F65-4A9D-BCAA-0D3226CAF77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lf, She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09600" y="1201680"/>
            <a:ext cx="4416480" cy="257328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4610160" y="1201680"/>
            <a:ext cx="4224240" cy="257328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3"/>
          <a:stretch/>
        </p:blipFill>
        <p:spPr>
          <a:xfrm>
            <a:off x="309600" y="3736800"/>
            <a:ext cx="4416480" cy="261144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4"/>
          <a:stretch/>
        </p:blipFill>
        <p:spPr>
          <a:xfrm>
            <a:off x="4610160" y="3736800"/>
            <a:ext cx="4224240" cy="26114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2306520" y="5694480"/>
            <a:ext cx="69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 = 49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921040" y="2814480"/>
            <a:ext cx="126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xing record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9A30B-65A8-4ED6-938B-FD23D72F5CA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309600" y="1163520"/>
            <a:ext cx="4338720" cy="264168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hmidt, Carringt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4533840" y="1163520"/>
            <a:ext cx="4262400" cy="263232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2190600" y="3092400"/>
            <a:ext cx="81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 = 16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3"/>
          <a:stretch/>
        </p:blipFill>
        <p:spPr>
          <a:xfrm>
            <a:off x="307800" y="3726000"/>
            <a:ext cx="4314960" cy="262728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2163600" y="5643720"/>
            <a:ext cx="69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 = 43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4"/>
          <a:stretch/>
        </p:blipFill>
        <p:spPr>
          <a:xfrm>
            <a:off x="4513320" y="3727440"/>
            <a:ext cx="4221000" cy="2619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6890F-08CB-4B43-93FA-F1200ACA599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411120" y="3703680"/>
            <a:ext cx="4233960" cy="259560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409680" y="1131840"/>
            <a:ext cx="4225680" cy="263052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örer, Pet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90600" y="3092400"/>
            <a:ext cx="81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 = 15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163600" y="5643720"/>
            <a:ext cx="69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 = 7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3"/>
          <a:stretch/>
        </p:blipFill>
        <p:spPr>
          <a:xfrm>
            <a:off x="4543560" y="1135080"/>
            <a:ext cx="4316400" cy="263196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4"/>
          <a:stretch/>
        </p:blipFill>
        <p:spPr>
          <a:xfrm>
            <a:off x="4518000" y="3722760"/>
            <a:ext cx="4341960" cy="2570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4E8C7-C8D3-4E2C-9B52-AAB55B442C5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360360" y="3728880"/>
            <a:ext cx="4351320" cy="258444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371520" y="1111320"/>
            <a:ext cx="4338720" cy="26496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storff, Web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190600" y="3092400"/>
            <a:ext cx="81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 = 15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63600" y="5643720"/>
            <a:ext cx="69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 = 23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3"/>
          <a:stretch/>
        </p:blipFill>
        <p:spPr>
          <a:xfrm>
            <a:off x="4602240" y="1109520"/>
            <a:ext cx="4236840" cy="265428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4"/>
          <a:stretch/>
        </p:blipFill>
        <p:spPr>
          <a:xfrm>
            <a:off x="4589640" y="3740040"/>
            <a:ext cx="4268520" cy="2568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F9017-2936-40B1-AC52-93011A0C23C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6560" y="17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y a Backbone? And What is i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6840" y="2195640"/>
            <a:ext cx="5692680" cy="34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isy-chaining: successively joining observers to the ‘end’ of the series, based on overlap with the series as it extends so far [accumulates errors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ck-boning: find a primary observer for a certain [long] interval and normalize all other observers individually to the primary based on overlap with only the primary [no accumulation of errors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98440" y="1192320"/>
            <a:ext cx="837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ing a long time series from observations made over time by several observers can be done in two way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6197760" y="2174760"/>
            <a:ext cx="2788920" cy="9558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6576840" y="3139920"/>
            <a:ext cx="2405160" cy="13194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515280" y="4538520"/>
            <a:ext cx="2219040" cy="1656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975360" y="3102120"/>
            <a:ext cx="174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Arial"/>
              </a:rPr>
              <a:t>Chinese Whisp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5960" y="5734080"/>
            <a:ext cx="6184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several backbones have been constructed we can join [daisy-chain] the backbones. Each backbone can be improved individually without impacting other backb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78360" y="3274920"/>
            <a:ext cx="1024200" cy="192240"/>
          </a:xfrm>
          <a:prstGeom prst="rightArrow">
            <a:avLst>
              <a:gd name="adj1" fmla="val 50000"/>
              <a:gd name="adj2" fmla="val 13319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23080" y="6159600"/>
            <a:ext cx="1940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rbon Backb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C22E8-C804-483D-AD03-6E35A49A29E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372960" y="3730680"/>
            <a:ext cx="4359240" cy="253044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366840" y="1143000"/>
            <a:ext cx="4370400" cy="26352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ussey, Stark</a:t>
            </a:r>
            <a:r>
              <a:rPr b="0" lang="en-US" sz="4400" spc="-1" strike="noStrike">
                <a:solidFill>
                  <a:srgbClr val="c0c0c0"/>
                </a:solidFill>
                <a:latin typeface="Arial"/>
              </a:rPr>
              <a:t>’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90600" y="3092400"/>
            <a:ext cx="81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 = 1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163600" y="5643720"/>
            <a:ext cx="69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 = 28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3"/>
          <a:stretch/>
        </p:blipFill>
        <p:spPr>
          <a:xfrm>
            <a:off x="4600440" y="1146240"/>
            <a:ext cx="4303800" cy="263520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4"/>
          <a:stretch/>
        </p:blipFill>
        <p:spPr>
          <a:xfrm>
            <a:off x="4605480" y="3728880"/>
            <a:ext cx="4279680" cy="2533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03C83-DF81-48F0-BE2F-D1C7A8B0718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vel, Arag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4653000" y="1200240"/>
            <a:ext cx="4162320" cy="275112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444600" y="1203480"/>
            <a:ext cx="4321080" cy="27367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2309760" y="3225960"/>
            <a:ext cx="66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 = 2.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444600" y="3814920"/>
            <a:ext cx="4344840" cy="246852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4"/>
          <a:stretch/>
        </p:blipFill>
        <p:spPr>
          <a:xfrm>
            <a:off x="4657680" y="3809880"/>
            <a:ext cx="4159440" cy="247500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2313000" y="5570640"/>
            <a:ext cx="66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 = 8.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D03B3-A6B4-47DB-9CBA-3D351D93753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laugergues, Hersch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290520" y="1287360"/>
            <a:ext cx="4433760" cy="258768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4605480" y="1289160"/>
            <a:ext cx="4201920" cy="258588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3"/>
          <a:stretch/>
        </p:blipFill>
        <p:spPr>
          <a:xfrm>
            <a:off x="303120" y="3840120"/>
            <a:ext cx="4435560" cy="25164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4"/>
          <a:stretch/>
        </p:blipFill>
        <p:spPr>
          <a:xfrm>
            <a:off x="4599000" y="3835440"/>
            <a:ext cx="4203720" cy="250812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496880" y="4863960"/>
            <a:ext cx="774720" cy="23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39920" y="5637240"/>
            <a:ext cx="66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 = 2.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320920" y="3174840"/>
            <a:ext cx="66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 = 0.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31920" y="6370560"/>
            <a:ext cx="782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tc… Lindener, Schwarzenbrunner, Derfflinger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BC8CA-6FFB-4920-94BD-F13BD4A1E00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222120" y="1320840"/>
            <a:ext cx="8637840" cy="2816280"/>
          </a:xfrm>
          <a:prstGeom prst="rect">
            <a:avLst/>
          </a:prstGeom>
          <a:ln w="0">
            <a:noFill/>
          </a:ln>
        </p:spPr>
      </p:pic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0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Schwabe Group Backb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448080" y="3668760"/>
            <a:ext cx="3516120" cy="9360"/>
          </a:xfrm>
          <a:prstGeom prst="line">
            <a:avLst/>
          </a:prstGeom>
          <a:ln w="936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908520" y="1598760"/>
            <a:ext cx="207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ed by F-val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206280" y="4114800"/>
            <a:ext cx="8621640" cy="2182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B00A2-E9D4-46CC-ADE6-4DA27601E0F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oining two Backb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165240" y="1488960"/>
            <a:ext cx="8808840" cy="229716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152280" y="4159080"/>
            <a:ext cx="5497560" cy="209232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3"/>
          <a:stretch/>
        </p:blipFill>
        <p:spPr>
          <a:xfrm>
            <a:off x="5662440" y="4146480"/>
            <a:ext cx="3200400" cy="210204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422280" y="4390920"/>
            <a:ext cx="2903400" cy="1538280"/>
          </a:xfrm>
          <a:prstGeom prst="rect">
            <a:avLst/>
          </a:prstGeom>
          <a:noFill/>
          <a:ln w="190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050920" y="4673520"/>
            <a:ext cx="64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5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41120" y="3828960"/>
            <a:ext cx="8882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ing Schwabe with Wolfer backbones over 1860-1883 we find a normalizing factor of 1.5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B8090-51D9-4DAC-B54A-AF11E8F5470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66560" y="133200"/>
            <a:ext cx="822960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arison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Backbon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ith </a:t>
            </a:r>
            <a:r>
              <a:rPr b="0" lang="en-US" sz="3200" spc="-1" strike="noStrike">
                <a:solidFill>
                  <a:srgbClr val="ff66cc"/>
                </a:solidFill>
                <a:latin typeface="Arial"/>
              </a:rPr>
              <a:t>GS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WS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147600" y="3751200"/>
            <a:ext cx="8802720" cy="25830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2"/>
          <a:srcRect l="0" t="0" r="0" b="2874"/>
          <a:stretch/>
        </p:blipFill>
        <p:spPr>
          <a:xfrm>
            <a:off x="149400" y="1038240"/>
            <a:ext cx="8843760" cy="280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EB75C-51B5-4C6A-9273-BD6E1EC0F7F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do we Know HMF B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157320" y="1228680"/>
            <a:ext cx="4500360" cy="390996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4610160" y="1303200"/>
            <a:ext cx="4303800" cy="217512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3"/>
          <a:stretch/>
        </p:blipFill>
        <p:spPr>
          <a:xfrm>
            <a:off x="165240" y="4572000"/>
            <a:ext cx="8731080" cy="173196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4764240" y="3505320"/>
            <a:ext cx="4070160" cy="10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 IDV-index is the unsigned difference from one day to the next of the Horizontal Component of the geomagnetic field averaged over stations and a suitable time window. The index correlates strongly with HMF B [and not with solar wind speed]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AE7E0-D7E0-4739-8AB4-43E5A7C08825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udach Observ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544680" y="1563840"/>
            <a:ext cx="7932600" cy="4492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58E17-10EB-4243-A23D-4435A7F93416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66560" y="194760"/>
            <a:ext cx="822960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Zucconi, Horreb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471600" y="1273320"/>
            <a:ext cx="4263840" cy="256212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4621320" y="1271520"/>
            <a:ext cx="4211640" cy="254484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3"/>
          <a:stretch/>
        </p:blipFill>
        <p:spPr>
          <a:xfrm>
            <a:off x="479520" y="3787920"/>
            <a:ext cx="4286160" cy="252864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4"/>
          <a:stretch/>
        </p:blipFill>
        <p:spPr>
          <a:xfrm>
            <a:off x="4660920" y="3763800"/>
            <a:ext cx="4195800" cy="2560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B8524-D00B-4ED0-A9AA-879F137F1E43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udach Backb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438120" y="1619280"/>
            <a:ext cx="8310600" cy="4005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1B210-AA96-489E-852F-BA23B136C60E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Backb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DC Backbon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[????-2013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panese Backbon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[1921-1995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lfer Backbon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[1841-1945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wabe Backbon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[1794-1883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udach Backbon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[????-????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rlier Backbone(s)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[1610-????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936A4-7E70-4FDE-9EDB-103CD2C1E44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urces of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rimary source is the very valuable tabulations by Hoyt and Schatten of the ‘raw’ count of groups by several hundred observ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some cases [especially Wolf and Schwabe] data has been re-entered and re-checked from Wolf’s published lists, as some discrepancies have been found with the H&amp;S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60DE3-D148-4E33-8297-1D91AD90A13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669680" y="274680"/>
            <a:ext cx="7016760" cy="85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Wolfer Backb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82680" y="1719360"/>
            <a:ext cx="8551800" cy="29718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401760" y="138240"/>
            <a:ext cx="1136520" cy="15224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1657440" y="1165320"/>
            <a:ext cx="748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fred Wolfer observed 1876-1928 with the ‘standard’ 80 mm telesco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415800" y="4686480"/>
            <a:ext cx="5927760" cy="16477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1698480" y="6039000"/>
            <a:ext cx="9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  <a:ea typeface="MS Mincho"/>
              </a:rPr>
              <a:t>80 mm X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351320" y="6031080"/>
            <a:ext cx="1028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  <a:ea typeface="MS Mincho"/>
              </a:rPr>
              <a:t>37 mm X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4782960"/>
            <a:ext cx="25225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udolf Wolf from 1860 on mainly used smaller 37 mm telescope(s) so those observations are used for the Wolfer Backbo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129200" y="4694400"/>
            <a:ext cx="4703760" cy="160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6AE5B-0532-47C7-9B0D-23925C2E018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47840" y="12528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rmalization Procedure, 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47840" y="112824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What we do not d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re only days when both observers actually observed. This is problematic when observations are sparse as during the early yea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re only days when both observers actually recorded at least one group. This is clearly wrong as it will bias towards higher activ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What we d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compute, for each observer, the monthly mean of actual observations [including days when it was indeed observed that there were no groups]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compute, for each observer and for each year, the yearly mean of the average counts for months with at least one observ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A1169-C172-457B-A0EA-139830EDEFC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rmalization Procedure, 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85920" y="1460520"/>
            <a:ext cx="4321080" cy="25048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4686480" y="1467000"/>
            <a:ext cx="4316400" cy="248904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309600" y="4029120"/>
            <a:ext cx="86533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each Backbone we regress each observers group counts for each year against those of the primary observer, and plot the result [left panel]. Experience shows that the regression line almost always very nearly goes through the origin, so w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or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t to do that and calculate the slope and various statistics, such as 1-</a:t>
            </a:r>
            <a:r>
              <a:rPr b="0" i="1" lang="el-GR" sz="18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uncertainty and th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value. The slope gives us what factor to multiply the observer’s count by to match the primary’s. The right panel shows a result for the Wolfer Backbone: blue is Wolf’s count [with his small telescope], pink is Wolfer’s count [with the larger telescope], and the orange curve is the blue curve multiplied by the slope. It is clear that the harmonization works well [at least for Wolf vs. Wolfer]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141640" y="3278160"/>
            <a:ext cx="812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 = 120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16501-275B-489C-8478-31F004DC5BA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hmidt, Winkl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446040" y="1274760"/>
            <a:ext cx="4345200" cy="248904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4700520" y="1274760"/>
            <a:ext cx="4313160" cy="248904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446040" y="3763800"/>
            <a:ext cx="4345200" cy="253224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4"/>
          <a:stretch/>
        </p:blipFill>
        <p:spPr>
          <a:xfrm>
            <a:off x="4700520" y="3763800"/>
            <a:ext cx="4313160" cy="253224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93920" y="3033720"/>
            <a:ext cx="81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 = 206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293920" y="5646600"/>
            <a:ext cx="81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 = 124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1B5E6-52AA-441D-ADEC-82650206979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ber, Spör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293920" y="3033720"/>
            <a:ext cx="81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 = 206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293920" y="5522760"/>
            <a:ext cx="81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 = 124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446040" y="1244520"/>
            <a:ext cx="4345200" cy="25192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700520" y="1244520"/>
            <a:ext cx="4313160" cy="251928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2446200" y="3063960"/>
            <a:ext cx="81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 = 1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457200" y="3711600"/>
            <a:ext cx="4334040" cy="25020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2446200" y="5522760"/>
            <a:ext cx="81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 = 34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4"/>
          <a:stretch/>
        </p:blipFill>
        <p:spPr>
          <a:xfrm>
            <a:off x="4700520" y="3711600"/>
            <a:ext cx="4313160" cy="2502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6839E-4895-4BFE-8C90-D3FAD9A268F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16T22:33:48Z</dcterms:created>
  <dc:creator>Leif</dc:creator>
  <dc:description/>
  <dc:language>en-US</dc:language>
  <cp:lastModifiedBy>Leif</cp:lastModifiedBy>
  <dcterms:modified xsi:type="dcterms:W3CDTF">2013-02-04T19:05:47Z</dcterms:modified>
  <cp:revision>17</cp:revision>
  <dc:subject/>
  <dc:title>Slide 1</dc:title>
</cp:coreProperties>
</file>