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39.png" ContentType="image/png"/>
  <Override PartName="/ppt/media/image61.wmf" ContentType="image/x-wmf"/>
  <Override PartName="/ppt/media/image36.png" ContentType="image/png"/>
  <Override PartName="/ppt/media/image35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47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24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28.wmf" ContentType="image/x-wmf"/>
  <Override PartName="/ppt/media/image70.wmf" ContentType="image/x-wmf"/>
  <Override PartName="/ppt/media/image65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37.png" ContentType="image/png"/>
  <Override PartName="/ppt/media/image40.wmf" ContentType="image/x-wmf"/>
  <Override PartName="/ppt/media/image41.wmf" ContentType="image/x-wmf"/>
  <Override PartName="/ppt/media/image7.png" ContentType="image/png"/>
  <Override PartName="/ppt/media/image76.wmf" ContentType="image/x-wmf"/>
  <Override PartName="/ppt/media/image75.wmf" ContentType="image/x-wmf"/>
  <Override PartName="/ppt/media/image74.wmf" ContentType="image/x-wmf"/>
  <Override PartName="/ppt/media/image4.png" ContentType="image/png"/>
  <Override PartName="/ppt/media/image73.wmf" ContentType="image/x-wmf"/>
  <Override PartName="/ppt/media/image3.png" ContentType="image/png"/>
  <Override PartName="/ppt/media/image72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82.wmf" ContentType="image/x-wmf"/>
  <Override PartName="/ppt/media/image17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38.png" ContentType="image/png"/>
  <Override PartName="/ppt/media/image60.wmf" ContentType="image/x-wmf"/>
  <Override PartName="/ppt/media/image83.wmf" ContentType="image/x-wmf"/>
  <Override PartName="/ppt/media/image18.wmf" ContentType="image/x-wmf"/>
  <Override PartName="/ppt/media/image6.wmf" ContentType="image/x-wmf"/>
  <Override PartName="/ppt/media/image80.wmf" ContentType="image/x-wmf"/>
  <Override PartName="/ppt/media/image15.wmf" ContentType="image/x-wmf"/>
  <Override PartName="/ppt/media/image11.wmf" ContentType="image/x-wmf"/>
  <Override PartName="/ppt/media/image48.wmf" ContentType="image/x-wmf"/>
  <Override PartName="/ppt/media/image9.wmf" ContentType="image/x-wmf"/>
  <Override PartName="/ppt/media/image81.wmf" ContentType="image/x-wmf"/>
  <Override PartName="/ppt/media/image16.wmf" ContentType="image/x-wmf"/>
  <Override PartName="/ppt/media/image12.wmf" ContentType="image/x-wmf"/>
  <Override PartName="/ppt/media/image49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D23-3B58-40D0-9269-F4D30F60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D2B-5A63-4A13-91CE-1C37394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7CC-E21C-48D2-B67A-40167418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543-26B9-47A0-B38A-A8A29333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3A6-20D3-46FB-B8BB-D0F6E95F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A0E-B703-4FD6-A9B8-6179DE59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114-8BBD-49EB-A285-E942CCDA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006-B64F-4743-BC96-E2AC183B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6FD-6CE2-4F98-88E3-3D272A41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544-E8A9-470A-B7E9-B1F491F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190-6C3A-40BD-B151-BD0CB542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0EF-A0DD-4EA5-B7D8-8B7C4AD7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70D2-47D4-4EB3-8ADE-9F6FC7C36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png"/><Relationship Id="rId3" Type="http://schemas.openxmlformats.org/officeDocument/2006/relationships/image" Target="../media/image38.png"/><Relationship Id="rId4" Type="http://schemas.openxmlformats.org/officeDocument/2006/relationships/image" Target="../media/image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123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Sunspot Group Number Backbone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8420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if Svalga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SN Workshop, Tucson, Jan.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4200" y="279360"/>
            <a:ext cx="771480" cy="69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38280" y="4773600"/>
            <a:ext cx="6240600" cy="165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47A-BFE1-4A5D-9828-031F6657F0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cchini, Quim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3920" y="303372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0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8440" y="1222200"/>
            <a:ext cx="4402080" cy="2551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92400" y="315612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3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10160" y="1239840"/>
            <a:ext cx="4389480" cy="2543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9600" y="3736800"/>
            <a:ext cx="4416480" cy="2560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90600" y="561816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3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10160" y="3736800"/>
            <a:ext cx="437832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506-69B4-4220-8F70-87973BE35B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9600" y="3774960"/>
            <a:ext cx="4416480" cy="253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9600" y="1241280"/>
            <a:ext cx="4416480" cy="2559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ger, Lepp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0600" y="31608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3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28760" y="565632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9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3280" y="1239840"/>
            <a:ext cx="4268880" cy="256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959200" y="2235240"/>
            <a:ext cx="1574640" cy="1011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610160" y="3774960"/>
            <a:ext cx="4302000" cy="25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EF9-0B06-4C80-B368-28D4958D73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0000" y="3659040"/>
            <a:ext cx="4494240" cy="257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0000" y="1239840"/>
            <a:ext cx="4494240" cy="2457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koly, Mt. Holy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0600" y="304488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2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0600" y="554184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9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8320" y="1201680"/>
            <a:ext cx="4302000" cy="249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48320" y="3659040"/>
            <a:ext cx="4346280" cy="2573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47760" y="6270480"/>
            <a:ext cx="852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tc… Dawson, Guillaume, Bernaerts, Woinoff, Merino, Ricco, Moncalieri, Sykora, Brunner,…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3A1-8E9C-48F1-A79D-8334E3CC3D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lfer Group Back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23720" y="1441440"/>
            <a:ext cx="8220240" cy="3103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1880" y="4503600"/>
            <a:ext cx="5486400" cy="2068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35200" y="185436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ed by F-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05160" y="3889440"/>
            <a:ext cx="3532320" cy="0"/>
          </a:xfrm>
          <a:prstGeom prst="line">
            <a:avLst/>
          </a:prstGeom>
          <a:ln w="9360">
            <a:solidFill>
              <a:srgbClr val="66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31080" y="4543560"/>
            <a:ext cx="2727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average without weighting by the F-value we get very nearly the same result as the overlay at the left 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C77-0D0A-42FC-8DC2-944E46A4A5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11800" y="274320"/>
            <a:ext cx="36799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yt &amp; Schatten used the Group Count from RGO [Royal Greenwich Observatory] as their Normalization Backbon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n’t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6120" y="142920"/>
            <a:ext cx="4556160" cy="226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9000" y="2414520"/>
            <a:ext cx="5548320" cy="2210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68440" y="4610160"/>
            <a:ext cx="1666800" cy="2060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44680" y="465768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é Vaquero found a similar result which he reported at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shop in Bru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" y="509760"/>
            <a:ext cx="1447560" cy="598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7440" y="2530440"/>
            <a:ext cx="30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strong indications that the RGO data is drifting before ~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89520" y="3598920"/>
            <a:ext cx="305280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this be caused by Wolfer’s count drifting? H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actor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n fact, declining slightly the first several years as assistant (seeing fewer spots early on – wrong direction). The group count is less sensitive than the Spot count and there are also the other observers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4680" y="5618160"/>
            <a:ext cx="33418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ychev &amp; Roshchina report in Solar Sys. Res. 2009,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“There is evidence that the Greenwich values obtained before 1880 and the Hoyt–Schatten series of Rg before 1908 are incorrect”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91D-39E7-42AC-9C52-99F772AE2F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2200" y="123480"/>
            <a:ext cx="690408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wabe Back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4095"/>
          <a:stretch/>
        </p:blipFill>
        <p:spPr>
          <a:xfrm>
            <a:off x="303120" y="1671480"/>
            <a:ext cx="8531280" cy="2989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01760" y="138240"/>
            <a:ext cx="1136520" cy="1522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85800" y="954000"/>
            <a:ext cx="743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wabe received a 50 mm telescope from Fraunhofer in 1826 Jan 22. This telescope was used for the vast majority of full-disk drawings made 1826–18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14720" y="4767120"/>
            <a:ext cx="2885760" cy="168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0" t="0" r="77995" b="0"/>
          <a:stretch/>
        </p:blipFill>
        <p:spPr>
          <a:xfrm>
            <a:off x="7148520" y="4776840"/>
            <a:ext cx="1303200" cy="164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31840" y="4761000"/>
            <a:ext cx="1965240" cy="1690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84800" y="4903920"/>
            <a:ext cx="1951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is backbone we use Wolf’s observations with the large 80mm standard tele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88160" y="6229440"/>
            <a:ext cx="131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30560" y="6148440"/>
            <a:ext cx="17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Schwabe’s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9520" y="612936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72F-A170-4354-BA96-945B4E8A99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, Sh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9600" y="1201680"/>
            <a:ext cx="4416480" cy="2573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10160" y="1201680"/>
            <a:ext cx="4224240" cy="257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9600" y="3736800"/>
            <a:ext cx="4416480" cy="261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610160" y="3736800"/>
            <a:ext cx="4224240" cy="2611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306520" y="569448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4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21040" y="2814480"/>
            <a:ext cx="12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ing recor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AD4-CA82-4CB2-B296-37BD1E8D28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9600" y="1163520"/>
            <a:ext cx="4338720" cy="2641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midt, Carr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33840" y="1163520"/>
            <a:ext cx="4262400" cy="2632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90600" y="30924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07800" y="3726000"/>
            <a:ext cx="4314960" cy="262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163600" y="564372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4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513320" y="3727440"/>
            <a:ext cx="4221000" cy="26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242-340B-4DA1-8FE2-E05C142AE9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11120" y="3703680"/>
            <a:ext cx="4233960" cy="2595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09680" y="1131840"/>
            <a:ext cx="4225680" cy="2630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örer, P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0600" y="30924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3600" y="564372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543560" y="1135080"/>
            <a:ext cx="4316400" cy="2631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518000" y="3722760"/>
            <a:ext cx="4341960" cy="257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EFB-3E17-423C-971C-9AF85AB67A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0360" y="3728880"/>
            <a:ext cx="4351320" cy="25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71520" y="1111320"/>
            <a:ext cx="4338720" cy="2649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orff, We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0600" y="30924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63600" y="564372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602240" y="1109520"/>
            <a:ext cx="4236840" cy="265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589640" y="3740040"/>
            <a:ext cx="4268520" cy="25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60B-D0F8-4B26-B9C6-29384AB42C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17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 Backbone? And 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195640"/>
            <a:ext cx="569268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sy-chaining: successively joining observers to the ‘end’ of the series, based on overlap with the series as it extends so far [accumulates err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boning: find a primary observer for a certain [long] interval and normalize all other observers individually to the primary based on overlap with only the primary [no accumulation of err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440" y="1192320"/>
            <a:ext cx="83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 long time series from observations made over time by several observers can be done in two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97760" y="2174760"/>
            <a:ext cx="2788920" cy="9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76840" y="3139920"/>
            <a:ext cx="2405160" cy="131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515280" y="4538520"/>
            <a:ext cx="2219040" cy="165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75360" y="31021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Chinese Whis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960" y="5734080"/>
            <a:ext cx="618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everal backbones have been constructed we can join [daisy-chain] the backbones. Each backbone can be improved individually without impacting other back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78360" y="3274920"/>
            <a:ext cx="1024200" cy="192240"/>
          </a:xfrm>
          <a:prstGeom prst="rightArrow">
            <a:avLst>
              <a:gd name="adj1" fmla="val 50000"/>
              <a:gd name="adj2" fmla="val 1331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23080" y="6159600"/>
            <a:ext cx="19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bon 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5574-3A27-44CC-A4F0-6A499C7D8E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2960" y="3730680"/>
            <a:ext cx="4359240" cy="2530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66840" y="1143000"/>
            <a:ext cx="437040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ssey, Stark</a:t>
            </a: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0600" y="30924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3600" y="564372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00440" y="1146240"/>
            <a:ext cx="4303800" cy="263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605480" y="3728880"/>
            <a:ext cx="4279680" cy="25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109-A0D5-4920-93BC-820079EFC8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vel, Ar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53000" y="1200240"/>
            <a:ext cx="4162320" cy="2751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44600" y="1203480"/>
            <a:ext cx="4321080" cy="2736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09760" y="322596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4600" y="3814920"/>
            <a:ext cx="4344840" cy="2468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657680" y="3809880"/>
            <a:ext cx="4159440" cy="2475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13000" y="5570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8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294-362A-4507-99D6-79B6FA38D3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ugergues, Hersc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0520" y="1287360"/>
            <a:ext cx="4433760" cy="2587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05480" y="1289160"/>
            <a:ext cx="4201920" cy="2585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03120" y="3840120"/>
            <a:ext cx="4435560" cy="2516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9000" y="3835440"/>
            <a:ext cx="4203720" cy="2508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96880" y="4863960"/>
            <a:ext cx="77472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39920" y="56372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20920" y="31748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1920" y="6370560"/>
            <a:ext cx="78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… Lindener, Schwarzenbrunner, Derffling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DEF-5F72-410B-9C38-3369797B2C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2120" y="1320840"/>
            <a:ext cx="8637840" cy="28162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wabe Group Back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48080" y="3668760"/>
            <a:ext cx="3516120" cy="93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08520" y="1598760"/>
            <a:ext cx="20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ed by F-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06280" y="4114800"/>
            <a:ext cx="8621640" cy="218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825-0BDF-441F-942E-C4C3C6B18C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ing two Back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5240" y="1488960"/>
            <a:ext cx="8808840" cy="2297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2280" y="4159080"/>
            <a:ext cx="5497560" cy="2092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662440" y="4146480"/>
            <a:ext cx="3200400" cy="210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22280" y="4390920"/>
            <a:ext cx="2903400" cy="153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46735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1120" y="3828960"/>
            <a:ext cx="888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ng Schwabe with Wolfer backbones over 1860-1883 we find a normalizing factor of 1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E9D-C9F5-4009-8F7A-B73608830E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133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ckb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G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3751200"/>
            <a:ext cx="8802720" cy="258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rcRect l="0" t="0" r="0" b="2874"/>
          <a:stretch/>
        </p:blipFill>
        <p:spPr>
          <a:xfrm>
            <a:off x="149400" y="1038240"/>
            <a:ext cx="8843760" cy="28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FBE-1093-4806-9702-62220F0256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Know HMF 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7320" y="1228680"/>
            <a:ext cx="4500360" cy="3909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10160" y="1303200"/>
            <a:ext cx="4303800" cy="2175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65240" y="4572000"/>
            <a:ext cx="8731080" cy="1731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764240" y="3505320"/>
            <a:ext cx="40701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DV-index is the unsigned difference from one day to the next of the Horizontal Component of the geomagnetic field averaged over stations and a suitable time window. The index correlates strongly with HMF B [and not with solar wind speed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184-302B-401D-A720-FBF1A63E28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udach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44680" y="1563840"/>
            <a:ext cx="7932600" cy="44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04D-462E-4BE2-9026-7CA5F22130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6560" y="194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cconi, Horreb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71600" y="1273320"/>
            <a:ext cx="4263840" cy="25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621320" y="1271520"/>
            <a:ext cx="4211640" cy="2544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79520" y="3787920"/>
            <a:ext cx="4286160" cy="2528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660920" y="3763800"/>
            <a:ext cx="4195800" cy="25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744-D10D-482D-B2C8-8E6BE0E020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udach Back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8120" y="1619280"/>
            <a:ext cx="8310600" cy="400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6FD-8E45-4EE1-865E-D5E4489AAE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ck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C Backb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????-201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Backb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1921-199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er Backb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1841-194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wabe Backb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1794-188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udach Backb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????-???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ier Backbone(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1610-???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46B-41E6-4EE7-A23A-BF4A621536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mary source is the very valuable tabulations by Hoyt and Schatten of the ‘raw’ count of groups by several hundred 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cases [especially Wolf and Schwabe] data has been re-entered and re-checked from Wolf’s published lists, as some discrepancies have been found with the H&amp;S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AF8-D618-41FF-A281-9F2E96CF6E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69680" y="274680"/>
            <a:ext cx="70167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lfer Back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2680" y="1719360"/>
            <a:ext cx="855180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01760" y="138240"/>
            <a:ext cx="1136520" cy="1522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57440" y="1165320"/>
            <a:ext cx="74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red Wolfer observed 1876-1928 with the ‘standard’ 80 mm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15800" y="4686480"/>
            <a:ext cx="5927760" cy="1647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98480" y="603900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MS Mincho"/>
              </a:rPr>
              <a:t>80 mm X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1320" y="6031080"/>
            <a:ext cx="102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MS Mincho"/>
              </a:rPr>
              <a:t>37 mm 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782960"/>
            <a:ext cx="252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dolf Wolf from 1860 on mainly used smaller 37 mm telescope(s) so those observations are used for the Wolfer 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29200" y="4694400"/>
            <a:ext cx="4703760" cy="160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2F9-01CD-4FF9-90AF-4E5CFC724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1252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 Procedure,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7840" y="11282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at we do not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only days when both observers actually observed. This is problematic when observations are sparse as during the early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only days when both observers actually recorded at least one group. This is clearly wrong as it will bias towards higher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at we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mpute, for each observer, the monthly mean of actual observations [including days when it was indeed observed that there were no groups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mpute, for each observer and for each year, the yearly mean of the average counts for months with at least one obser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E0F-5CD0-4CBE-9B80-C61FABC26A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 Procedure,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5920" y="1460520"/>
            <a:ext cx="4321080" cy="2504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6480" y="1467000"/>
            <a:ext cx="4316400" cy="2489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9600" y="4029120"/>
            <a:ext cx="865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Backbone we regress each observers group counts for each year against those of the primary observer, and plot the result [left panel]. Experience shows that the regression line almost always very nearly goes through the origin, so w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to do that and calculate the slope and various statistics, such as 1-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ertainty a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alue. The slope gives us what factor to multiply the observer’s count by to match the primary’s. The right panel shows a result for the Wolfer Backbone: blue is Wolf’s count [with his small telescope], pink is Wolfer’s count [with the larger telescope], and the orange curve is the blue curve multiplied by the slope. It is clear that the harmonization works well [at least for Wolf vs. Wolfer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41640" y="3278160"/>
            <a:ext cx="81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656-E0CD-4D56-854F-F041D03E50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midt, Wink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6040" y="1274760"/>
            <a:ext cx="4345200" cy="2489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00520" y="1274760"/>
            <a:ext cx="4313160" cy="2489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6040" y="3763800"/>
            <a:ext cx="4345200" cy="2532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700520" y="3763800"/>
            <a:ext cx="4313160" cy="2532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93920" y="303372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0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93920" y="56466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2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9FE-A492-4118-9DA5-5ADFE970C5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er, Spö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93920" y="303372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0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93920" y="552276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2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6040" y="1244520"/>
            <a:ext cx="434520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00520" y="1244520"/>
            <a:ext cx="4313160" cy="2519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46200" y="306396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" y="3711600"/>
            <a:ext cx="4334040" cy="250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46200" y="552276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3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700520" y="3711600"/>
            <a:ext cx="4313160" cy="250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C1B-9DD3-43F6-8722-7C2472DF6A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22:33:48Z</dcterms:created>
  <dc:creator>Leif</dc:creator>
  <dc:description/>
  <dc:language>en-US</dc:language>
  <cp:lastModifiedBy>Leif</cp:lastModifiedBy>
  <dcterms:modified xsi:type="dcterms:W3CDTF">2013-02-04T19:05:47Z</dcterms:modified>
  <cp:revision>17</cp:revision>
  <dc:subject/>
  <dc:title>Slide 1</dc:title>
</cp:coreProperties>
</file>